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hdr"/>
          </p:nvPr>
        </p:nvSpPr>
        <p:spPr>
          <a:xfrm>
            <a:off x="-1440" y="-4680"/>
            <a:ext cx="3038400" cy="4125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2"/>
          </p:nvPr>
        </p:nvSpPr>
        <p:spPr>
          <a:xfrm>
            <a:off x="3973680" y="-4680"/>
            <a:ext cx="3038400" cy="4125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Img"/>
          </p:nvPr>
        </p:nvSpPr>
        <p:spPr>
          <a:xfrm>
            <a:off x="1317240" y="750960"/>
            <a:ext cx="4475160" cy="335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564840" y="4221000"/>
            <a:ext cx="5879880" cy="4708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3"/>
          </p:nvPr>
        </p:nvSpPr>
        <p:spPr>
          <a:xfrm>
            <a:off x="-1440" y="8778600"/>
            <a:ext cx="3038400" cy="522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 type="sldNum" idx="4"/>
          </p:nvPr>
        </p:nvSpPr>
        <p:spPr>
          <a:xfrm>
            <a:off x="3973680" y="8778600"/>
            <a:ext cx="3038400" cy="522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fld id="{6640000B-4A4C-4EFD-8224-6894EA1303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73680" y="8778600"/>
            <a:ext cx="3038400" cy="522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fld id="{E2885D2F-ED3E-4430-BE3B-72DAC5AAE7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1440" y="8778600"/>
            <a:ext cx="3038400" cy="5223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1440" y="-4680"/>
            <a:ext cx="3038400" cy="4125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73680" y="-4680"/>
            <a:ext cx="3038400" cy="4125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34560" y="441972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1333440" y="8110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734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734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734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734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43000" y="3808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734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734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8410320" y="1440"/>
            <a:ext cx="16820640" cy="136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366040" y="486108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15960" y="1468440"/>
            <a:ext cx="7835760" cy="353880"/>
            <a:chOff x="615960" y="1468440"/>
            <a:chExt cx="7835760" cy="353880"/>
          </a:xfrm>
        </p:grpSpPr>
        <p:grpSp>
          <p:nvGrpSpPr>
            <p:cNvPr id="6" name=""/>
            <p:cNvGrpSpPr/>
            <p:nvPr/>
          </p:nvGrpSpPr>
          <p:grpSpPr>
            <a:xfrm>
              <a:off x="8280360" y="1468440"/>
              <a:ext cx="171360" cy="352440"/>
              <a:chOff x="8280360" y="1468440"/>
              <a:chExt cx="171360" cy="352440"/>
            </a:xfrm>
          </p:grpSpPr>
          <p:sp>
            <p:nvSpPr>
              <p:cNvPr id="7" name=""/>
              <p:cNvSpPr/>
              <p:nvPr/>
            </p:nvSpPr>
            <p:spPr>
              <a:xfrm>
                <a:off x="8423280" y="1468440"/>
                <a:ext cx="2844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280360" y="1468440"/>
                <a:ext cx="7452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7819920" y="1468440"/>
              <a:ext cx="378000" cy="352440"/>
              <a:chOff x="7819920" y="1468440"/>
              <a:chExt cx="378000" cy="352440"/>
            </a:xfrm>
          </p:grpSpPr>
          <p:sp>
            <p:nvSpPr>
              <p:cNvPr id="10" name=""/>
              <p:cNvSpPr/>
              <p:nvPr/>
            </p:nvSpPr>
            <p:spPr>
              <a:xfrm>
                <a:off x="8074080" y="1468440"/>
                <a:ext cx="12384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819920" y="1468440"/>
                <a:ext cx="17784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180200" y="1468440"/>
              <a:ext cx="563760" cy="352440"/>
              <a:chOff x="7180200" y="1468440"/>
              <a:chExt cx="563760" cy="352440"/>
            </a:xfrm>
          </p:grpSpPr>
          <p:sp>
            <p:nvSpPr>
              <p:cNvPr id="13" name=""/>
              <p:cNvSpPr/>
              <p:nvPr/>
            </p:nvSpPr>
            <p:spPr>
              <a:xfrm>
                <a:off x="7524720" y="1468440"/>
                <a:ext cx="21924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180200" y="1468440"/>
                <a:ext cx="26820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5346720" y="1468440"/>
              <a:ext cx="1755720" cy="353880"/>
              <a:chOff x="5346720" y="1468440"/>
              <a:chExt cx="1755720" cy="353880"/>
            </a:xfrm>
          </p:grpSpPr>
          <p:sp>
            <p:nvSpPr>
              <p:cNvPr id="16" name=""/>
              <p:cNvSpPr/>
              <p:nvPr/>
            </p:nvSpPr>
            <p:spPr>
              <a:xfrm>
                <a:off x="6789600" y="1468440"/>
                <a:ext cx="31284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6359400" y="1468440"/>
                <a:ext cx="35568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75200" y="1468440"/>
                <a:ext cx="409680" cy="3538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346720" y="1468440"/>
                <a:ext cx="45252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615960" y="1468440"/>
              <a:ext cx="4659480" cy="352440"/>
              <a:chOff x="615960" y="1468440"/>
              <a:chExt cx="4659480" cy="352440"/>
            </a:xfrm>
          </p:grpSpPr>
          <p:sp>
            <p:nvSpPr>
              <p:cNvPr id="21" name=""/>
              <p:cNvSpPr/>
              <p:nvPr/>
            </p:nvSpPr>
            <p:spPr>
              <a:xfrm>
                <a:off x="4773600" y="1468440"/>
                <a:ext cx="50184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15960" y="1468440"/>
                <a:ext cx="4084560" cy="352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" name=""/>
          <p:cNvSpPr/>
          <p:nvPr/>
        </p:nvSpPr>
        <p:spPr>
          <a:xfrm>
            <a:off x="685800" y="1463760"/>
            <a:ext cx="4038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6bf69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GAUTRA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DEPARTMENT OF PUBLIC TRANSPORT, ROADS &amp; WOR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" name=""/>
          <p:cNvGraphicFramePr/>
          <p:nvPr/>
        </p:nvGraphicFramePr>
        <p:xfrm>
          <a:off x="554040" y="304920"/>
          <a:ext cx="140508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040" y="304920"/>
                    <a:ext cx="1405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" name="" descr=""/>
          <p:cNvPicPr/>
          <p:nvPr/>
        </p:nvPicPr>
        <p:blipFill>
          <a:blip r:embed="rId4"/>
          <a:stretch/>
        </p:blipFill>
        <p:spPr>
          <a:xfrm>
            <a:off x="7916760" y="6404040"/>
            <a:ext cx="10670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e166"/>
                </a:solidFill>
                <a:latin typeface="Arial"/>
              </a:rPr>
              <a:t>APT STEERING COMMITTE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1" name="HVS%202002" descr=""/>
          <p:cNvPicPr/>
          <p:nvPr/>
        </p:nvPicPr>
        <p:blipFill>
          <a:blip r:embed="rId1"/>
          <a:stretch/>
        </p:blipFill>
        <p:spPr>
          <a:xfrm>
            <a:off x="0" y="1900080"/>
            <a:ext cx="6781680" cy="433404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4952880" y="4495680"/>
            <a:ext cx="4191120" cy="2362320"/>
            <a:chOff x="4952880" y="4495680"/>
            <a:chExt cx="4191120" cy="2362320"/>
          </a:xfrm>
        </p:grpSpPr>
        <p:pic>
          <p:nvPicPr>
            <p:cNvPr id="73" name="MMLS1" descr=""/>
            <p:cNvPicPr/>
            <p:nvPr/>
          </p:nvPicPr>
          <p:blipFill>
            <a:blip r:embed="rId2"/>
            <a:stretch/>
          </p:blipFill>
          <p:spPr>
            <a:xfrm>
              <a:off x="4952880" y="4495680"/>
              <a:ext cx="41911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 txBox="1"/>
            <p:nvPr/>
          </p:nvSpPr>
          <p:spPr>
            <a:xfrm>
              <a:off x="4952880" y="4495680"/>
              <a:ext cx="4191120" cy="236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af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056280" y="2825640"/>
            <a:ext cx="3087720" cy="1773360"/>
          </a:xfrm>
          <a:prstGeom prst="rect">
            <a:avLst/>
          </a:prstGeom>
          <a:solidFill>
            <a:srgbClr val="663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ROAD PAVEMENT FO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26 November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afd00"/>
                </a:solidFill>
                <a:latin typeface="Arial"/>
              </a:rPr>
              <a:t>Elzbieta Sadz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7440" y="2684520"/>
            <a:ext cx="8288280" cy="4002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PT STEERING COMMITTE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863360"/>
            <a:ext cx="7597800" cy="10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HVS International Alliance mee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&amp; 17 October 200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096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0480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ctivity Coordination Task Group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3640" y="2017800"/>
            <a:ext cx="794088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iven by R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rix to be developed to identify current activities, overlaps and ga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lementary information to be gathered similar to Caltrans example from last me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ggestions of possible areas for collaboration for next mee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strumentation and Results Task Group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iven by US Army Corps of Engineer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eed in association with Fr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 matrices for collection of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rculate to identified reps for population and consolid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 recommendations of areas for possible collaboration for next me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ractice, Specifications and Terminology Task Group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iven by Prof Joe Mahoney (US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e data capture tool for circu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e recommendations for next mee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PT v Real-life protocol Task Group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iven by Vince Janoo (US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ft protocol to be circulated to all members of task group (Fenella, Fred, Reed and Nic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ents by end of January 200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olidate comments for discussion at next me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VSIA Web sit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thur to coordinate and prepare recommendations by end of Janu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mmendations circulated to Exco for comment and 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VS Benefit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SA “benefits” report to be circulated to Exco for comments after April 200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ed to provide Texas strategic plan to Chai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ck to provide Caltrans strategic plan to Chai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uzid to circulated Florida strategic plan to Ex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PT Steering Committe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98680"/>
            <a:ext cx="777240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xt Meeting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7 November 200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IORITY RESEARCH AREA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PT meeting 17 July 2003)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03480"/>
            <a:ext cx="8082000" cy="399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ld recycling (ETB &amp; Foam): 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1" lang="en-US" sz="3200" spc="-1" strike="noStrike">
                <a:solidFill>
                  <a:srgbClr val="ffffff"/>
                </a:solidFill>
                <a:latin typeface="MS Sans Serif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terial design /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terial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lida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of performance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tive filler / bind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ntent</a:t>
            </a:r>
            <a:r>
              <a:rPr b="1" lang="en-US" sz="2800" spc="-1" strike="noStrike">
                <a:solidFill>
                  <a:srgbClr val="ffffff"/>
                </a:solidFill>
                <a:latin typeface="MS Sans Serif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itable materials for inters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phalt overlay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ari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28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IORITY RESEARCH AREAS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con.)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11428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pgrading of gravel roa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exible surfacing for low-volume roa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vidual, new and innovative desig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-cost roa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hicle-pavement interaction related to dynamic loads and contact str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rete pav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bilization of sa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VS TESTING PRIORITI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2133720"/>
          <a:ext cx="7772400" cy="4603680"/>
        </p:xfrm>
        <a:graphic>
          <a:graphicData uri="http://schemas.openxmlformats.org/drawingml/2006/table">
            <a:tbl>
              <a:tblPr/>
              <a:tblGrid>
                <a:gridCol w="822240"/>
                <a:gridCol w="5878440"/>
                <a:gridCol w="1071720"/>
              </a:tblGrid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r>
                        <a:rPr b="1" lang="en-US" sz="2800" spc="-1" strike="noStrike">
                          <a:solidFill>
                            <a:srgbClr val="ff0033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7 fast lane unstabilised G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1" lang="en-US" sz="2800" spc="-1" strike="noStrike">
                          <a:solidFill>
                            <a:srgbClr val="ff0033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e Town Low Volume Roa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2800" spc="-1" strike="noStrike">
                          <a:solidFill>
                            <a:srgbClr val="ff0033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3 Pietermaritzburg – concrete pav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ad 2388 – Dynamic loa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halt overlays – full exp desig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ZN Low Volume Roads - sa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 4388 KZN - fo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B on N12 and N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58/1 - LAM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GRESS REPOR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8280" y="2543040"/>
          <a:ext cx="8844120" cy="4211640"/>
        </p:xfrm>
        <a:graphic>
          <a:graphicData uri="http://schemas.openxmlformats.org/drawingml/2006/table">
            <a:tbl>
              <a:tblPr/>
              <a:tblGrid>
                <a:gridCol w="2740320"/>
                <a:gridCol w="3087360"/>
                <a:gridCol w="3016440"/>
              </a:tblGrid>
              <a:tr h="5306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O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REAT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7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R11/1)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 la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B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d end Feb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7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R11/1)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 la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stabilised G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d June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C MR 5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volume roa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d on 7 of Octo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r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rban C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ARC Exhibi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- 25 Oct 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3 Hilt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rete pav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ed 2 Nov 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73080" y="2066760"/>
            <a:ext cx="3417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VS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5830920"/>
            <a:ext cx="905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GRESS REPOR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5360" y="2387520"/>
          <a:ext cx="8443800" cy="4154400"/>
        </p:xfrm>
        <a:graphic>
          <a:graphicData uri="http://schemas.openxmlformats.org/drawingml/2006/table">
            <a:tbl>
              <a:tblPr/>
              <a:tblGrid>
                <a:gridCol w="3562560"/>
                <a:gridCol w="2541600"/>
                <a:gridCol w="2339640"/>
              </a:tblGrid>
              <a:tr h="486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ROJEC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P</a:t>
                      </a:r>
                      <a:r>
                        <a:rPr b="1" lang="en-GB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ONSIBILIT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ATU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 test</a:t>
                      </a: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B</a:t>
                      </a: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 200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sensit</a:t>
                      </a: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MML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 200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ing of FB mix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 200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B lab test</a:t>
                      </a: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(P243/1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0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als databas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200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base for HVS testi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200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PP protoco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200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676440" y="1911240"/>
            <a:ext cx="388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HVS related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GRESS REPOR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5360" y="2576520"/>
          <a:ext cx="8229600" cy="4182840"/>
        </p:xfrm>
        <a:graphic>
          <a:graphicData uri="http://schemas.openxmlformats.org/drawingml/2006/table">
            <a:tbl>
              <a:tblPr/>
              <a:tblGrid>
                <a:gridCol w="3073320"/>
                <a:gridCol w="2567160"/>
                <a:gridCol w="2589120"/>
              </a:tblGrid>
              <a:tr h="477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ROJEC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P</a:t>
                      </a:r>
                      <a:r>
                        <a:rPr b="1" lang="en-GB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ONSIBILIT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ATU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63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WD, RSD &amp; MDD stud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 200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B lab test</a:t>
                      </a: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(NI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200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63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 of Materials databas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200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B &amp; ETB compaction stud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200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63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PP protocol implementa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200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606600" y="1911240"/>
            <a:ext cx="3954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HVS related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CTION PLA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0760" y="2057040"/>
            <a:ext cx="83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VS remains in Western Cape till Oct. ’03 – testing N7 &amp; low volume road sites. </a:t>
            </a:r>
            <a:r>
              <a:rPr b="1" lang="en-US" sz="3600" spc="-1" strike="noStrike">
                <a:solidFill>
                  <a:srgbClr val="ff0033"/>
                </a:solidFill>
                <a:latin typeface="Wingdings 2"/>
                <a:ea typeface="Wingdings 2"/>
              </a:rPr>
              <a:t>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HVS moved to Durban for PIARC in Oct.2003 </a:t>
            </a:r>
            <a:r>
              <a:rPr b="1" lang="en-US" sz="3600" spc="-1" strike="noStrike">
                <a:solidFill>
                  <a:srgbClr val="ff0033"/>
                </a:solidFill>
                <a:latin typeface="Wingdings 2"/>
                <a:ea typeface="Wingdings 2"/>
              </a:rPr>
              <a:t>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esting concrete pavements on N3 till June 2004 </a:t>
            </a:r>
            <a:r>
              <a:rPr b="1" lang="en-US" sz="3600" spc="-1" strike="noStrike">
                <a:solidFill>
                  <a:srgbClr val="ff0033"/>
                </a:solidFill>
                <a:latin typeface="Wingdings 2"/>
                <a:ea typeface="Wingdings 2"/>
              </a:rPr>
              <a:t>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vestigate the inclusion of dynamic loading into test section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a"/>
            </a:gs>
            <a:gs pos="50000">
              <a:srgbClr val="003399"/>
            </a:gs>
            <a:gs pos="100000">
              <a:srgbClr val="00236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CTION PLA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SIR – prepare experimental design for testing of asphalt overlay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SIR &amp; KwaZulu Natal – develop full-scale experiment design for sand stabilization. (not HVS test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SIR – submit proposal to Gautrans – evaluate of ETB sites (incl. N12 &amp; N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methodology to quantify HVS programme benef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long term strategy for the HVS programm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4T17:44:18Z</dcterms:created>
  <dc:creator>N A Kilian</dc:creator>
  <dc:description/>
  <dc:language>en-US</dc:language>
  <cp:lastModifiedBy>User @</cp:lastModifiedBy>
  <cp:lastPrinted>1997-08-27T11:23:38Z</cp:lastPrinted>
  <dcterms:modified xsi:type="dcterms:W3CDTF">2003-12-12T08:42:29Z</dcterms:modified>
  <cp:revision>231</cp:revision>
  <dc:subject/>
  <dc:title>Budget per Main Programme (R'000)</dc:title>
</cp:coreProperties>
</file>